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CD7-EBC6-4F3D-804D-55BC43E9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11A-0FFA-4FFC-B203-90B795E8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9AE-477C-44A9-9EA3-C7AA2D23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7E4-9980-407E-BB9B-0621B82E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519C-AB57-41A3-826A-91036BCF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BAE8-4B03-4610-8620-5FFB60EF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1607-DE29-4C64-B301-90FC9A7F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9695-CB22-446C-82E6-498E3A10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5F33-1B47-403B-9523-C696008C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6A25-D6B4-4D44-8384-7EC954CC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F75E-AFD2-42B4-B398-8837D0CC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816-B4B8-4A38-B898-A11A705C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B80E-2C92-4841-BBE5-C1EC0708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08B6-402F-4BC8-98B8-37BFD732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75D6-D0E6-4ADA-9947-972C95AB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2492-AD7E-4911-B2AD-179CBA5F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E802-695D-4ECA-8398-7B573677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957-86ED-4ABB-B382-6ED1F179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DDE-ECA5-4084-98EC-D4FD7A06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4BA-4156-4DFB-B284-6CB18794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1E6-AC49-442D-A759-DD01529C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2A3-8213-44AE-AFD4-80C08B6C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3EC-F95C-4596-B168-42226F51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ED2-AE73-4651-9DB5-8F1BBB63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E57E-5BBA-421B-917F-1410917B7D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8D9F-EF9F-4CF7-BA4F-544AE734BF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698508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СПОРТТУРИЗМ РОСС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ООО «СПОРТИВНЫЙ  КОМПЛЕКС «ЮНОСТЬ»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(мужчины и женщины) и первенство России (молодежь мужчины и женщины до 23 лет, юниоры и юниорки до 20 лет, юноши и девушки до 18 л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длинные мет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-24.02.2011 г.                                                                                         г. Ад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/к «Ю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пионат России (мужчины и женщины) и первенство России (молодежь мужчины и женщины до 23 лет, юниоры и юниорки до 20 лет, юноши и девушки до 18 лет)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длинные метания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615080" cy="4138560"/>
        </p:xfrm>
        <a:graphic>
          <a:graphicData uri="http://schemas.openxmlformats.org/drawingml/2006/table">
            <a:tbl>
              <a:tblPr/>
              <a:tblGrid>
                <a:gridCol w="3565440"/>
                <a:gridCol w="1710000"/>
                <a:gridCol w="658800"/>
                <a:gridCol w="16808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И. Лото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В.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. Иск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л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В. Смоле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А. Ахметдзя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А. Рябинк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ян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Н. Коптю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Admin</cp:lastModifiedBy>
  <dcterms:modified xsi:type="dcterms:W3CDTF">2011-02-24T08:48:54Z</dcterms:modified>
  <cp:revision>38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